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.jpeg" ContentType="image/jpeg"/>
  <Override PartName="/ppt/media/image9.jpeg" ContentType="image/jpeg"/>
  <Override PartName="/ppt/media/bomb.wav" ContentType="audio/x-wav"/>
  <Override PartName="/ppt/media/explode.wav" ContentType="audio/x-wav"/>
  <Override PartName="/ppt/media/image2.jpeg" ContentType="image/jpeg"/>
  <Override PartName="/ppt/media/image3.png" ContentType="image/png"/>
  <Override PartName="/ppt/media/wind.wav" ContentType="audio/x-wav"/>
  <Override PartName="/ppt/media/chimes.wav" ContentType="audio/x-wav"/>
  <Override PartName="/ppt/media/image6.jpeg" ContentType="image/jpeg"/>
  <Override PartName="/ppt/media/image8.png" ContentType="image/png"/>
  <Override PartName="/ppt/media/image4.png" ContentType="image/png"/>
  <Override PartName="/ppt/media/hammer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0B0-7FED-4201-9B3B-CFBC1FFD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2C0-0D13-4FE8-9F8B-B5FD0DD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16F-F627-4D71-824E-F5C9222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49F-CBE7-4878-8363-77EFD417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5722E-B82C-432B-965F-B6D72C2E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38E25-A30B-438C-A537-A2333E0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C9740-51A4-4F8E-9DDB-D9DA7126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CC05-D1D6-470D-9EB6-E442DA86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BC7C-7B82-47B0-BA4A-2D7B499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B99B9-55D3-43F5-AA4F-39F95231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5B552-4807-486E-A2B6-14BB247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63D-4F39-4A76-B839-7E101EF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0C78-912C-4FD3-8B79-490DF1C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0A077-41ED-41B6-BD39-264C841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C9202-631F-4C2A-AA44-845F380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016D2-8208-4975-BF81-EDB25413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323CA-5660-4117-909B-C40C35A6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1CC4-8C96-4972-9091-3A556FFA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1E3F-DF11-4906-91DE-D932BF19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C1C6-D3CA-4BE3-A143-61ECEFBD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3B7F-CACD-419D-9236-A237FB6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E7E2-71C8-454E-BBD2-4C903409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FA5-21E1-40F5-BE75-280C235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44DD-30AD-4446-A348-2E9D8FFF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6E53-8E63-4C1F-B772-DFB7E74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93E5-FB75-4C0A-8751-3B76924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8E52-C5C9-499A-AD40-9B3BA15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6A07-2C5B-4623-B5C4-393BDD7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5045-BFBB-45E5-B2EE-A18CFF6F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0E8D-C918-4CC7-8BAA-0C5B9BCD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5EE3-ED0A-4643-BCFF-450677BC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B445-2667-481A-B4F2-7FA9A836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7DF0-5827-4DF0-B038-00435AE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FA1-4F89-49E7-A7A7-E338DBC9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2863-5ABB-48C1-B7FF-A0D7471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3E45-7690-4E58-AB70-F0E962F8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1384-604F-40D4-9D74-CD76B5C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4D37-FE30-43FC-B841-53E84F0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83B5-93ED-4E0C-8EE4-CEA447C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DEA49-D64A-41C2-A625-3E10B6B7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E28F-00F6-45E4-A01E-02124947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4294-DD7F-4CF6-8E35-2CA79B2D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C3B4-B2A4-42B4-AE91-148DE8A9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8B62D-E345-415B-AEC0-EA280D11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AF2-4E1F-4CA1-8465-03615D0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47ED-8ED4-4ADC-B9AF-C839F97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B315-1306-4D65-8858-F71BEEC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FC62-7CE8-4649-9E07-274A9E4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B7664-8890-436A-AFD5-D30F095B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4533-31F8-4AD7-BC10-9C48DD05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248EF-D6D0-4D5F-A774-97FE986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9AC5-3578-42D7-8EED-29F1D0A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037C-64A7-4EAC-BB8A-85E6D4E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75F79-2BEE-4A87-95C2-F1F90B3D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EE9D-701A-4AF3-AB59-2B1CF405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227-4CC9-4D66-A798-9D996A2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0E06-6011-409F-A7D2-BE5331D2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3F3B0-B80A-4E2F-8807-B8983AB5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2C114-7047-4E3F-876E-301FAD3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76754-B233-42DA-95FB-FED9AF57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00AA2-EDB8-4F84-A957-52F94959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4035A-9D6E-4D38-AF24-9AA3BC08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9B88F-56E5-4EB8-A5BD-167B867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A1EB9-F1C3-4CB1-8410-692B734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968D5-A4A6-4BA2-B291-ED67A119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26468-C6CD-449F-9856-E05EB79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089-B86A-4260-B040-EE621A9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2EB3D-7CD1-4E05-9EEC-3A46A27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3B417-0647-4524-8176-3C674FB5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E40C9-73D0-4402-A869-4F1FB175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BD93-AAA3-4093-AB61-3429D0F1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7EBB-F1FE-4FB9-9B5A-D328F6F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5A355-5BB6-4554-BDCB-D67AF96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EB986-AEC0-4CF9-B36B-53FBAAD4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EE6D-EACC-410E-97E9-0BA7D984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45CC-58A2-488E-89CE-FAB12FCA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4AD8B-6862-49C5-AAAE-F906484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21F-B5F6-42D7-BB4A-AFA2CD0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554F-D424-49A5-94CF-3856873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D386-D6C8-42ED-9424-96BA6E86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9055-88CD-4D9D-A3AA-45DAFD4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8DD04-33FE-4C04-B375-F5F959C1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E403B-44E5-468D-AF52-58D30EBE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405-6D35-434B-8F62-01F11B0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A14-FE87-45A7-B664-1438C24F8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3675-D001-4103-9AFD-3E8FCC8FC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36F1-F8A6-4C95-A1FA-CF9A08E8D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301-6427-4337-8666-E98676D2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3FA-2C09-42A9-A4BA-E228A5FE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0E7-9F5C-41EF-B301-643E462E30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D2CA-B6C6-4179-9B79-8AE1B2FBA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aa00"/>
                </a:solidFill>
                <a:latin typeface="Comic Sans MS"/>
              </a:rPr>
              <a:t>DINOSAUR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6d71"/>
                </a:solidFill>
                <a:latin typeface="Comic Sans MS"/>
              </a:rPr>
              <a:t>WHERE DID THEY 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nosau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 we know about them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inosaurs lived on earth more than 215 million years 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hey lived in most part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hey ruled the earth for nearly 150 million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inosaurs have been extinct for 65 million years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xtinc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– something that once alive but no longer exist anywhere on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388120" y="4029120"/>
            <a:ext cx="2560320" cy="1962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1743120" cy="21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edff"/>
                </a:solidFill>
                <a:latin typeface="Comic Sans MS"/>
              </a:rPr>
              <a:t>How Do We Know About Dinosaur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aleontologi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cientist who studies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ossi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left of a plant or animal that lived long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inosau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animal that lived millions of years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Dinosaurs were not lizards or reptiles but many did lay eggs. Some had skin like crocodiles while others skin was much smoo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733920" y="4191120"/>
            <a:ext cx="152712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How a Dinosaur Fossil is Mad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1600200"/>
          <a:ext cx="8229600" cy="498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1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dinosaur lives on Earth and roams the la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dinosaur dies and its body lays on the land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er time wind and rain help to cover the dinosaurs body with mud, sand, and leaves.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fter millions of years the mud, sand, and leaves turn to rock. The bones or shape of the dinosaurs body are left in the rock and create a foss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Comic Sans MS"/>
              </a:rPr>
              <a:t>How do Scientist Get Fossils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Paleontologist use special tools and chip fossils carefully from 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The fossils are then taken to a museum where they are  cleaned, measured, and studi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Most fossils are found in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Scientist try to put the fossil pieces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econstruc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– to rebuild or put together like puzzle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186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indefinite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ve Scientist Learned From Dinosaur Fossils?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re were different types of dinosaurs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me were sm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ike a chic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me were t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3 story bui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ome were plant-e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Flat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ome were meat-e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harp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21891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753160" y="396396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More Dinosa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me walked on 4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ke animals to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thers walked on 2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2 short 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ny could fly like bi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thers swam like alliga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Dinosaur Names</a:t>
            </a:r>
            <a:br>
              <a:rPr sz="5400"/>
            </a:b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Paleontologist give each dinosaur a name that best describ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STEGASAUR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Walked on 4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Plant-eater (flat te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harp plates o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pikes on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572000" y="3505320"/>
            <a:ext cx="340056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rannosaurus Rex means “lizard 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of the fiercest of all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t-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ut 12ft-16ft. 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lked on 2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019840" y="1600200"/>
            <a:ext cx="329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4:10:11Z</dcterms:created>
  <dc:creator>Josh</dc:creator>
  <dc:description/>
  <dc:language>en-US</dc:language>
  <cp:lastModifiedBy>College Education</cp:lastModifiedBy>
  <dcterms:modified xsi:type="dcterms:W3CDTF">2006-08-17T01:42:35Z</dcterms:modified>
  <cp:revision>17</cp:revision>
  <dc:subject/>
  <dc:title>Dinosaurs</dc:title>
</cp:coreProperties>
</file>